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40.png" ContentType="image/png"/>
  <Override PartName="/ppt/media/image38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59.wmf" ContentType="image/x-wmf"/>
  <Override PartName="/ppt/media/image27.wmf" ContentType="image/x-wmf"/>
  <Override PartName="/ppt/media/image28.wmf" ContentType="image/x-wmf"/>
  <Override PartName="/ppt/media/image70.wmf" ContentType="image/x-wmf"/>
  <Override PartName="/ppt/media/image29.wmf" ContentType="image/x-wmf"/>
  <Override PartName="/ppt/media/image71.wmf" ContentType="image/x-wmf"/>
  <Override PartName="/ppt/media/image66.png" ContentType="image/png"/>
  <Override PartName="/ppt/media/image23.wmf" ContentType="image/x-wmf"/>
  <Override PartName="/ppt/media/image60.wmf" ContentType="image/x-wmf"/>
  <Override PartName="/ppt/media/image2.jpeg" ContentType="image/jpeg"/>
  <Override PartName="/ppt/media/image67.png" ContentType="image/png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88.wmf" ContentType="image/x-wmf"/>
  <Override PartName="/ppt/media/image76.wmf" ContentType="image/x-wmf"/>
  <Override PartName="/ppt/media/image6.png" ContentType="image/png"/>
  <Override PartName="/ppt/media/image87.wmf" ContentType="image/x-wmf"/>
  <Override PartName="/ppt/media/image50.wmf" ContentType="image/x-wmf"/>
  <Override PartName="/ppt/media/image75.wmf" ContentType="image/x-wmf"/>
  <Override PartName="/ppt/media/image22.wmf" ContentType="image/x-wmf"/>
  <Override PartName="/ppt/media/image65.png" ContentType="image/png"/>
  <Override PartName="/ppt/media/image26.wmf" ContentType="image/x-wmf"/>
  <Override PartName="/ppt/media/image85.wmf" ContentType="image/x-wmf"/>
  <Override PartName="/ppt/media/image73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41.wmf" ContentType="image/x-wmf"/>
  <Override PartName="/ppt/media/image7.png" ContentType="image/png"/>
  <Override PartName="/ppt/media/image74.wmf" ContentType="image/x-wmf"/>
  <Override PartName="/ppt/media/image72.wmf" ContentType="image/x-wmf"/>
  <Override PartName="/ppt/media/image6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82.wmf" ContentType="image/x-wmf"/>
  <Override PartName="/ppt/media/image17.wmf" ContentType="image/x-wmf"/>
  <Override PartName="/ppt/media/image68.png" ContentType="image/png"/>
  <Override PartName="/ppt/media/image25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3.wmf" ContentType="image/x-wmf"/>
  <Override PartName="/ppt/media/image80.wmf" ContentType="image/x-wmf"/>
  <Override PartName="/ppt/media/image15.wmf" ContentType="image/x-wmf"/>
  <Override PartName="/ppt/media/image1.jpeg" ContentType="image/jpeg"/>
  <Override PartName="/ppt/media/image89.wmf" ContentType="image/x-wmf"/>
  <Override PartName="/ppt/media/image11.wmf" ContentType="image/x-wmf"/>
  <Override PartName="/ppt/media/image48.wmf" ContentType="image/x-wmf"/>
  <Override PartName="/ppt/media/image81.wmf" ContentType="image/x-wmf"/>
  <Override PartName="/ppt/media/image16.wmf" ContentType="image/x-wmf"/>
  <Override PartName="/ppt/embeddings/oleObject9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4592-C532-4B5C-AB17-517B2720614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9748-9DD4-44D4-9F9F-794FB57598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F83-6426-4AC1-B593-8279274D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677-AF2D-4CB1-BB31-E4993709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06F-4522-4432-A058-7E2B522F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EB1-EF55-45AE-A3B1-62FF5666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5E7-6F23-4105-9C97-C1357B79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ED2-8082-459D-9D7A-EC039F33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A91-E7A4-403A-B81D-B3053EA0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F13-2069-48A3-BE8E-5BD6C3EE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F8E-B94D-4D00-A3CF-F79424DE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7EE-4CD7-449D-8AB0-866176BE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402-2466-47E3-BE11-D4C82761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81D-CB33-4321-A531-A61E233B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A2D1-C5A3-43F5-91E1-25D8B803FD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9.wmf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2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47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4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55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56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57.wmf"/><Relationship Id="rId2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4.wmf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1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2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7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7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78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79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80.wmf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82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8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8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85.wmf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package" Target="../embeddings/oleObject2.docx"/><Relationship Id="rId10" Type="http://schemas.openxmlformats.org/officeDocument/2006/relationships/image" Target="../media/image9.wmf"/><Relationship Id="rId11" Type="http://schemas.openxmlformats.org/officeDocument/2006/relationships/package" Target="../embeddings/oleObject3.docx"/><Relationship Id="rId12" Type="http://schemas.openxmlformats.org/officeDocument/2006/relationships/image" Target="../media/image10.wmf"/><Relationship Id="rId13" Type="http://schemas.openxmlformats.org/officeDocument/2006/relationships/package" Target="../embeddings/oleObject4.docx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8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9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7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8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132000" y="2924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3.1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不定积分的概念与积分公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9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9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0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0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5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0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1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结    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5" name="Object 2"/>
          <p:cNvGraphicFramePr/>
          <p:nvPr/>
        </p:nvGraphicFramePr>
        <p:xfrm>
          <a:off x="539640" y="692280"/>
          <a:ext cx="8280360" cy="1752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1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692280"/>
                    <a:ext cx="82803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27"/>
          <p:cNvGraphicFramePr/>
          <p:nvPr/>
        </p:nvGraphicFramePr>
        <p:xfrm>
          <a:off x="468360" y="2565360"/>
          <a:ext cx="5040360" cy="3240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18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8360" y="2565360"/>
                    <a:ext cx="5040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Picture 28" descr=""/>
          <p:cNvPicPr/>
          <p:nvPr/>
        </p:nvPicPr>
        <p:blipFill>
          <a:blip r:embed="rId10"/>
          <a:stretch/>
        </p:blipFill>
        <p:spPr>
          <a:xfrm>
            <a:off x="5580000" y="2565360"/>
            <a:ext cx="31687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2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2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2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3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3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3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2" name="Object 2"/>
          <p:cNvGraphicFramePr/>
          <p:nvPr/>
        </p:nvGraphicFramePr>
        <p:xfrm>
          <a:off x="928800" y="1071720"/>
          <a:ext cx="7026120" cy="5599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4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800" y="1071720"/>
                    <a:ext cx="7026120" cy="55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Rectangle 5"/>
          <p:cNvSpPr/>
          <p:nvPr/>
        </p:nvSpPr>
        <p:spPr>
          <a:xfrm>
            <a:off x="3913560" y="69336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不定积分的基本积分公式、运算法则、直接积分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28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4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5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5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5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6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36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69" name="Object 2"/>
          <p:cNvGraphicFramePr/>
          <p:nvPr/>
        </p:nvGraphicFramePr>
        <p:xfrm>
          <a:off x="1042920" y="692280"/>
          <a:ext cx="6994440" cy="5759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692280"/>
                    <a:ext cx="699444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7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7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7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8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8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9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3" name="Object 2"/>
          <p:cNvGraphicFramePr/>
          <p:nvPr/>
        </p:nvGraphicFramePr>
        <p:xfrm>
          <a:off x="898560" y="690480"/>
          <a:ext cx="6159600" cy="1443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9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8560" y="690480"/>
                    <a:ext cx="615960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6"/>
          <p:cNvGraphicFramePr/>
          <p:nvPr/>
        </p:nvGraphicFramePr>
        <p:xfrm>
          <a:off x="1270080" y="3500280"/>
          <a:ext cx="6038640" cy="2592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70080" y="3500280"/>
                    <a:ext cx="6038640" cy="25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28"/>
          <p:cNvGraphicFramePr/>
          <p:nvPr/>
        </p:nvGraphicFramePr>
        <p:xfrm>
          <a:off x="1258920" y="1989000"/>
          <a:ext cx="5386320" cy="576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8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58920" y="1989000"/>
                    <a:ext cx="5386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9"/>
          <p:cNvGraphicFramePr/>
          <p:nvPr/>
        </p:nvGraphicFramePr>
        <p:xfrm>
          <a:off x="1258920" y="2708280"/>
          <a:ext cx="6769080" cy="587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0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2708280"/>
                    <a:ext cx="67690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0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0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0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1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1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2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3" name="Object 2"/>
          <p:cNvGraphicFramePr/>
          <p:nvPr/>
        </p:nvGraphicFramePr>
        <p:xfrm>
          <a:off x="826920" y="765000"/>
          <a:ext cx="5897880" cy="1521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2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765000"/>
                    <a:ext cx="5897880" cy="15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30"/>
          <p:cNvGraphicFramePr/>
          <p:nvPr/>
        </p:nvGraphicFramePr>
        <p:xfrm>
          <a:off x="971640" y="1916280"/>
          <a:ext cx="4549680" cy="79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7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71640" y="1916280"/>
                    <a:ext cx="4549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32"/>
          <p:cNvGraphicFramePr/>
          <p:nvPr/>
        </p:nvGraphicFramePr>
        <p:xfrm>
          <a:off x="5580000" y="1773360"/>
          <a:ext cx="282744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9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1773360"/>
                    <a:ext cx="2827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33"/>
          <p:cNvGraphicFramePr/>
          <p:nvPr/>
        </p:nvGraphicFramePr>
        <p:xfrm>
          <a:off x="755640" y="2708280"/>
          <a:ext cx="1982880" cy="433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1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5640" y="2708280"/>
                    <a:ext cx="19828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34"/>
          <p:cNvGraphicFramePr/>
          <p:nvPr/>
        </p:nvGraphicFramePr>
        <p:xfrm>
          <a:off x="2700360" y="2565360"/>
          <a:ext cx="3743280" cy="770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3" name="Object 3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00360" y="2565360"/>
                    <a:ext cx="37432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35"/>
          <p:cNvGraphicFramePr/>
          <p:nvPr/>
        </p:nvGraphicFramePr>
        <p:xfrm>
          <a:off x="6443640" y="2565360"/>
          <a:ext cx="2000160" cy="863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5" name="Object 3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443640" y="2565360"/>
                    <a:ext cx="2000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36"/>
          <p:cNvGraphicFramePr/>
          <p:nvPr/>
        </p:nvGraphicFramePr>
        <p:xfrm>
          <a:off x="684360" y="3429000"/>
          <a:ext cx="7886520" cy="893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37" name="Object 3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84360" y="3429000"/>
                    <a:ext cx="78865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37"/>
          <p:cNvGraphicFramePr/>
          <p:nvPr/>
        </p:nvGraphicFramePr>
        <p:xfrm>
          <a:off x="971640" y="4437000"/>
          <a:ext cx="5143320" cy="806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39" name="Object 3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71640" y="4437000"/>
                    <a:ext cx="51433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38"/>
          <p:cNvGraphicFramePr/>
          <p:nvPr/>
        </p:nvGraphicFramePr>
        <p:xfrm>
          <a:off x="2484360" y="5300640"/>
          <a:ext cx="3000600" cy="8064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1" name="Object 38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484360" y="5300640"/>
                    <a:ext cx="30006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39"/>
          <p:cNvGraphicFramePr/>
          <p:nvPr/>
        </p:nvGraphicFramePr>
        <p:xfrm>
          <a:off x="5580000" y="5300640"/>
          <a:ext cx="2228760" cy="806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43" name="Object 3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580000" y="5300640"/>
                    <a:ext cx="22287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4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4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45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5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6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46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6" name="Object 2"/>
          <p:cNvGraphicFramePr/>
          <p:nvPr/>
        </p:nvGraphicFramePr>
        <p:xfrm>
          <a:off x="1042920" y="765000"/>
          <a:ext cx="6229440" cy="19432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765000"/>
                    <a:ext cx="622944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30"/>
          <p:cNvGraphicFramePr/>
          <p:nvPr/>
        </p:nvGraphicFramePr>
        <p:xfrm>
          <a:off x="542880" y="1989000"/>
          <a:ext cx="5178600" cy="847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0" name="Object 3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2880" y="1989000"/>
                    <a:ext cx="517860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32"/>
          <p:cNvGraphicFramePr/>
          <p:nvPr/>
        </p:nvGraphicFramePr>
        <p:xfrm>
          <a:off x="1879560" y="2681280"/>
          <a:ext cx="3367080" cy="903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2" name="Object 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79560" y="2681280"/>
                    <a:ext cx="33670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33"/>
          <p:cNvGraphicFramePr/>
          <p:nvPr/>
        </p:nvGraphicFramePr>
        <p:xfrm>
          <a:off x="5364000" y="2781360"/>
          <a:ext cx="3254400" cy="790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74" name="Object 3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64000" y="2781360"/>
                    <a:ext cx="32544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34"/>
          <p:cNvGraphicFramePr/>
          <p:nvPr/>
        </p:nvGraphicFramePr>
        <p:xfrm>
          <a:off x="1332000" y="3789360"/>
          <a:ext cx="2179440" cy="792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76" name="Object 3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332000" y="3789360"/>
                    <a:ext cx="21794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36"/>
          <p:cNvGraphicFramePr/>
          <p:nvPr/>
        </p:nvGraphicFramePr>
        <p:xfrm>
          <a:off x="5219640" y="3860640"/>
          <a:ext cx="2235240" cy="792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78" name="Object 3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219640" y="3860640"/>
                    <a:ext cx="22352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37"/>
          <p:cNvGraphicFramePr/>
          <p:nvPr/>
        </p:nvGraphicFramePr>
        <p:xfrm>
          <a:off x="3564000" y="3789360"/>
          <a:ext cx="1528560" cy="792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80" name="Object 3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564000" y="3789360"/>
                    <a:ext cx="15285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圆角矩形 23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AutoShape 34"/>
          <p:cNvGrpSpPr/>
          <p:nvPr/>
        </p:nvGrpSpPr>
        <p:grpSpPr>
          <a:xfrm>
            <a:off x="7040520" y="6492960"/>
            <a:ext cx="542880" cy="444240"/>
            <a:chOff x="7040520" y="6492960"/>
            <a:chExt cx="542880" cy="444240"/>
          </a:xfrm>
        </p:grpSpPr>
        <p:pic>
          <p:nvPicPr>
            <p:cNvPr id="48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4052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70945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AutoShape 35"/>
          <p:cNvGrpSpPr/>
          <p:nvPr/>
        </p:nvGrpSpPr>
        <p:grpSpPr>
          <a:xfrm>
            <a:off x="6608880" y="6492960"/>
            <a:ext cx="541080" cy="444240"/>
            <a:chOff x="6608880" y="6492960"/>
            <a:chExt cx="541080" cy="444240"/>
          </a:xfrm>
        </p:grpSpPr>
        <p:pic>
          <p:nvPicPr>
            <p:cNvPr id="48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410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666108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AutoShape 36"/>
          <p:cNvGrpSpPr/>
          <p:nvPr/>
        </p:nvGrpSpPr>
        <p:grpSpPr>
          <a:xfrm>
            <a:off x="7473960" y="6492960"/>
            <a:ext cx="536400" cy="444240"/>
            <a:chOff x="7473960" y="6492960"/>
            <a:chExt cx="536400" cy="444240"/>
          </a:xfrm>
        </p:grpSpPr>
        <p:pic>
          <p:nvPicPr>
            <p:cNvPr id="48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73960" y="6492960"/>
              <a:ext cx="5364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752616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49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795816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页脚占位符 47"/>
          <p:cNvSpPr/>
          <p:nvPr/>
        </p:nvSpPr>
        <p:spPr>
          <a:xfrm>
            <a:off x="46980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49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0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Object 3"/>
          <p:cNvGraphicFramePr/>
          <p:nvPr/>
        </p:nvGraphicFramePr>
        <p:xfrm>
          <a:off x="684360" y="765000"/>
          <a:ext cx="7848360" cy="1971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765000"/>
                    <a:ext cx="784836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Rectangle 7"/>
          <p:cNvSpPr/>
          <p:nvPr/>
        </p:nvSpPr>
        <p:spPr>
          <a:xfrm>
            <a:off x="950400" y="2853000"/>
            <a:ext cx="14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2484360" y="2781360"/>
          <a:ext cx="3737160" cy="73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84360" y="2781360"/>
                    <a:ext cx="37371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5"/>
          <p:cNvGraphicFramePr/>
          <p:nvPr/>
        </p:nvGraphicFramePr>
        <p:xfrm>
          <a:off x="2484360" y="3429000"/>
          <a:ext cx="4803840" cy="151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84360" y="3429000"/>
                    <a:ext cx="480384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7"/>
          <p:cNvGraphicFramePr/>
          <p:nvPr/>
        </p:nvGraphicFramePr>
        <p:xfrm>
          <a:off x="2627280" y="4869000"/>
          <a:ext cx="4048200" cy="1008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2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627280" y="4869000"/>
                    <a:ext cx="4048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1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1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2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2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2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32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Object 3"/>
          <p:cNvGraphicFramePr/>
          <p:nvPr/>
        </p:nvGraphicFramePr>
        <p:xfrm>
          <a:off x="1160640" y="765000"/>
          <a:ext cx="5599080" cy="98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7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60640" y="765000"/>
                    <a:ext cx="55990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7"/>
          <p:cNvSpPr/>
          <p:nvPr/>
        </p:nvSpPr>
        <p:spPr>
          <a:xfrm>
            <a:off x="807840" y="2133720"/>
            <a:ext cx="14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Object 6"/>
          <p:cNvGraphicFramePr/>
          <p:nvPr/>
        </p:nvGraphicFramePr>
        <p:xfrm>
          <a:off x="2484360" y="4581360"/>
          <a:ext cx="202104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0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84360" y="4581360"/>
                    <a:ext cx="2021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12"/>
          <p:cNvGraphicFramePr/>
          <p:nvPr/>
        </p:nvGraphicFramePr>
        <p:xfrm>
          <a:off x="1476360" y="5445000"/>
          <a:ext cx="2577960" cy="80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2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76360" y="5445000"/>
                    <a:ext cx="257796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3"/>
          <p:cNvGraphicFramePr/>
          <p:nvPr/>
        </p:nvGraphicFramePr>
        <p:xfrm>
          <a:off x="4716360" y="4653000"/>
          <a:ext cx="2278080" cy="882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44" name="Object 1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16360" y="4653000"/>
                    <a:ext cx="2278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14"/>
          <p:cNvGraphicFramePr/>
          <p:nvPr/>
        </p:nvGraphicFramePr>
        <p:xfrm>
          <a:off x="4140360" y="5805360"/>
          <a:ext cx="2533320" cy="309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46" name="Object 1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40360" y="5805360"/>
                    <a:ext cx="253332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Object 4"/>
          <p:cNvGraphicFramePr/>
          <p:nvPr/>
        </p:nvGraphicFramePr>
        <p:xfrm>
          <a:off x="2340000" y="2708280"/>
          <a:ext cx="3168720" cy="1035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48" name="Object 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340000" y="2708280"/>
                    <a:ext cx="31687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5"/>
          <p:cNvGraphicFramePr/>
          <p:nvPr/>
        </p:nvGraphicFramePr>
        <p:xfrm>
          <a:off x="2268360" y="1844640"/>
          <a:ext cx="3584880" cy="949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50" name="Object 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268360" y="1844640"/>
                    <a:ext cx="35848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7"/>
          <p:cNvGraphicFramePr/>
          <p:nvPr/>
        </p:nvGraphicFramePr>
        <p:xfrm>
          <a:off x="2268360" y="3500280"/>
          <a:ext cx="3915000" cy="1138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52" name="Object 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68360" y="3500280"/>
                    <a:ext cx="39150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7"/>
          <p:cNvSpPr/>
          <p:nvPr/>
        </p:nvSpPr>
        <p:spPr>
          <a:xfrm>
            <a:off x="1151280" y="479844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原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圆角矩形 26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7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573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6" name="Object 5"/>
          <p:cNvGraphicFramePr/>
          <p:nvPr/>
        </p:nvGraphicFramePr>
        <p:xfrm>
          <a:off x="395280" y="836640"/>
          <a:ext cx="8353440" cy="158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77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836640"/>
                    <a:ext cx="835344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Object 3"/>
          <p:cNvGraphicFramePr/>
          <p:nvPr/>
        </p:nvGraphicFramePr>
        <p:xfrm>
          <a:off x="611280" y="1989000"/>
          <a:ext cx="6257880" cy="971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79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989000"/>
                    <a:ext cx="62578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Object 3"/>
          <p:cNvGraphicFramePr/>
          <p:nvPr/>
        </p:nvGraphicFramePr>
        <p:xfrm>
          <a:off x="755640" y="3429000"/>
          <a:ext cx="7561440" cy="7873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81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429000"/>
                    <a:ext cx="7561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Object 7"/>
          <p:cNvGraphicFramePr/>
          <p:nvPr/>
        </p:nvGraphicFramePr>
        <p:xfrm>
          <a:off x="1619280" y="2637000"/>
          <a:ext cx="5616720" cy="647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4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19280" y="2637000"/>
                    <a:ext cx="5616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9"/>
          <p:cNvGraphicFramePr/>
          <p:nvPr/>
        </p:nvGraphicFramePr>
        <p:xfrm>
          <a:off x="1744560" y="4653000"/>
          <a:ext cx="5129280" cy="492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86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44560" y="4653000"/>
                    <a:ext cx="51292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58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59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9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9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0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60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"/>
          <p:cNvSpPr/>
          <p:nvPr/>
        </p:nvSpPr>
        <p:spPr>
          <a:xfrm>
            <a:off x="826920" y="692280"/>
            <a:ext cx="741708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设曲线通过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, 2)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且其上任一点处的切线斜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于这点横坐标的两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此曲线的方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684360" y="4292640"/>
            <a:ext cx="76327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故必有某个常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曲线方程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因所求曲线通过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, 2),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是所求曲线方程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1078560" y="350028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5" descr=""/>
          <p:cNvPicPr/>
          <p:nvPr/>
        </p:nvPicPr>
        <p:blipFill>
          <a:blip r:embed="rId6"/>
          <a:srcRect l="0" t="20995" r="83483" b="20995"/>
          <a:stretch/>
        </p:blipFill>
        <p:spPr>
          <a:xfrm>
            <a:off x="2700360" y="3645000"/>
            <a:ext cx="2289240" cy="615960"/>
          </a:xfrm>
          <a:prstGeom prst="rect">
            <a:avLst/>
          </a:prstGeom>
          <a:ln w="0">
            <a:noFill/>
          </a:ln>
        </p:spPr>
      </p:pic>
      <p:grpSp>
        <p:nvGrpSpPr>
          <p:cNvPr id="614" name="Group 6"/>
          <p:cNvGrpSpPr/>
          <p:nvPr/>
        </p:nvGrpSpPr>
        <p:grpSpPr>
          <a:xfrm>
            <a:off x="5796000" y="2060640"/>
            <a:ext cx="2951280" cy="2085840"/>
            <a:chOff x="5796000" y="2060640"/>
            <a:chExt cx="2951280" cy="2085840"/>
          </a:xfrm>
        </p:grpSpPr>
        <mc:AlternateContent>
          <mc:Choice xmlns:a14="http://schemas.microsoft.com/office/drawing/2010/main" Requires="a14">
            <p:sp>
              <p:nvSpPr>
                <p:cNvPr id="615" name="Object 7"/>
                <p:cNvSpPr txBox="1"/>
                <p:nvPr/>
              </p:nvSpPr>
              <p:spPr>
                <a:xfrm>
                  <a:off x="6689880" y="2076480"/>
                  <a:ext cx="2412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6" name="Object 8"/>
                <p:cNvSpPr txBox="1"/>
                <p:nvPr/>
              </p:nvSpPr>
              <p:spPr>
                <a:xfrm>
                  <a:off x="8518680" y="3905280"/>
                  <a:ext cx="22860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7" name="Object 9"/>
                <p:cNvSpPr txBox="1"/>
                <p:nvPr/>
              </p:nvSpPr>
              <p:spPr>
                <a:xfrm>
                  <a:off x="6918480" y="3859200"/>
                  <a:ext cx="21564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8" name="Line 10"/>
            <p:cNvSpPr/>
            <p:nvPr/>
          </p:nvSpPr>
          <p:spPr>
            <a:xfrm>
              <a:off x="5796000" y="3828960"/>
              <a:ext cx="29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1"/>
            <p:cNvSpPr/>
            <p:nvPr/>
          </p:nvSpPr>
          <p:spPr>
            <a:xfrm flipV="1">
              <a:off x="7574040" y="2854080"/>
              <a:ext cx="0" cy="974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2"/>
            <p:cNvSpPr/>
            <p:nvPr/>
          </p:nvSpPr>
          <p:spPr>
            <a:xfrm flipV="1">
              <a:off x="7085160" y="2060640"/>
              <a:ext cx="0" cy="17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3"/>
            <p:cNvSpPr/>
            <p:nvPr/>
          </p:nvSpPr>
          <p:spPr>
            <a:xfrm>
              <a:off x="7085160" y="2854440"/>
              <a:ext cx="488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4"/>
            <p:cNvSpPr/>
            <p:nvPr/>
          </p:nvSpPr>
          <p:spPr>
            <a:xfrm>
              <a:off x="7540560" y="2827440"/>
              <a:ext cx="52560" cy="522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3" name="Object 15"/>
                <p:cNvSpPr txBox="1"/>
                <p:nvPr/>
              </p:nvSpPr>
              <p:spPr>
                <a:xfrm>
                  <a:off x="7682040" y="2679840"/>
                  <a:ext cx="7747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</m:t>
                      </m:r>
                      <m:r>
                        <m:t xml:space="preserve">,</m:t>
                      </m:r>
                      <m:r>
                        <m:t xml:space="preserve">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4" name="Text Box 16"/>
          <p:cNvSpPr/>
          <p:nvPr/>
        </p:nvSpPr>
        <p:spPr>
          <a:xfrm>
            <a:off x="216000" y="1557360"/>
            <a:ext cx="8928000" cy="21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所求的曲线方程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曲线上任一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的切线斜率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个原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17"/>
          <p:cNvSpPr/>
          <p:nvPr/>
        </p:nvSpPr>
        <p:spPr>
          <a:xfrm>
            <a:off x="6443640" y="2852640"/>
            <a:ext cx="1152720" cy="96516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152" h="864">
                <a:moveTo>
                  <a:pt x="0" y="0"/>
                </a:moveTo>
                <a:cubicBezTo>
                  <a:pt x="192" y="432"/>
                  <a:pt x="384" y="864"/>
                  <a:pt x="576" y="864"/>
                </a:cubicBezTo>
                <a:cubicBezTo>
                  <a:pt x="768" y="864"/>
                  <a:pt x="960" y="432"/>
                  <a:pt x="1152" y="0"/>
                </a:cubicBezTo>
              </a:path>
            </a:pathLst>
          </a:custGeom>
          <a:noFill/>
          <a:ln w="2556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引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539640" y="836640"/>
          <a:ext cx="8396280" cy="187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836640"/>
                    <a:ext cx="83962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3" descr="question-red.png"/>
          <p:cNvPicPr/>
          <p:nvPr/>
        </p:nvPicPr>
        <p:blipFill>
          <a:blip r:embed="rId8"/>
          <a:stretch/>
        </p:blipFill>
        <p:spPr>
          <a:xfrm>
            <a:off x="611280" y="692280"/>
            <a:ext cx="720720" cy="7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29"/>
          <p:cNvGraphicFramePr/>
          <p:nvPr/>
        </p:nvGraphicFramePr>
        <p:xfrm>
          <a:off x="611280" y="2492280"/>
          <a:ext cx="7416720" cy="15130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5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2492280"/>
                    <a:ext cx="74167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30"/>
          <p:cNvGraphicFramePr/>
          <p:nvPr/>
        </p:nvGraphicFramePr>
        <p:xfrm>
          <a:off x="690480" y="4075200"/>
          <a:ext cx="7507440" cy="13795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77" name="Object 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0480" y="4075200"/>
                    <a:ext cx="75074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31"/>
          <p:cNvGraphicFramePr/>
          <p:nvPr/>
        </p:nvGraphicFramePr>
        <p:xfrm>
          <a:off x="611280" y="5589720"/>
          <a:ext cx="7848360" cy="93024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79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280" y="5589720"/>
                    <a:ext cx="7848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8" name="Object 3"/>
          <p:cNvGraphicFramePr/>
          <p:nvPr/>
        </p:nvGraphicFramePr>
        <p:xfrm>
          <a:off x="1476360" y="1197000"/>
          <a:ext cx="2478240" cy="93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9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6360" y="1197000"/>
                    <a:ext cx="24782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Object 5"/>
          <p:cNvGraphicFramePr/>
          <p:nvPr/>
        </p:nvGraphicFramePr>
        <p:xfrm>
          <a:off x="1417680" y="2492280"/>
          <a:ext cx="2706480" cy="94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1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17680" y="2492280"/>
                    <a:ext cx="27064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6"/>
          <p:cNvGraphicFramePr/>
          <p:nvPr/>
        </p:nvGraphicFramePr>
        <p:xfrm>
          <a:off x="1430280" y="4260960"/>
          <a:ext cx="2462400" cy="1152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53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30280" y="4260960"/>
                    <a:ext cx="24624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5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5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6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50"/>
          <p:cNvSpPr/>
          <p:nvPr/>
        </p:nvSpPr>
        <p:spPr>
          <a:xfrm>
            <a:off x="1727280" y="249228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函数与不定积分的概念，不定积分的几何意义，不定积分的基本积分公式、运算法则，用直接积分法计算函数的不定积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51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67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7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1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2" name="Object 2"/>
          <p:cNvGraphicFramePr/>
          <p:nvPr/>
        </p:nvGraphicFramePr>
        <p:xfrm>
          <a:off x="539640" y="1781280"/>
          <a:ext cx="8042400" cy="1360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1781280"/>
                    <a:ext cx="804240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27"/>
          <p:cNvSpPr/>
          <p:nvPr/>
        </p:nvSpPr>
        <p:spPr>
          <a:xfrm>
            <a:off x="1181520" y="109656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原函数与不定积分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28"/>
          <p:cNvGraphicFramePr/>
          <p:nvPr/>
        </p:nvGraphicFramePr>
        <p:xfrm>
          <a:off x="684360" y="3068640"/>
          <a:ext cx="7732440" cy="18939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3068640"/>
                    <a:ext cx="773244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2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9" name="Object 2"/>
          <p:cNvGraphicFramePr/>
          <p:nvPr/>
        </p:nvGraphicFramePr>
        <p:xfrm>
          <a:off x="684360" y="765000"/>
          <a:ext cx="7848360" cy="792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765000"/>
                    <a:ext cx="78483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27"/>
          <p:cNvGraphicFramePr/>
          <p:nvPr/>
        </p:nvGraphicFramePr>
        <p:xfrm>
          <a:off x="611280" y="1197000"/>
          <a:ext cx="7683480" cy="22622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3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1197000"/>
                    <a:ext cx="768348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28"/>
          <p:cNvGraphicFramePr/>
          <p:nvPr/>
        </p:nvGraphicFramePr>
        <p:xfrm>
          <a:off x="900000" y="3141720"/>
          <a:ext cx="7010640" cy="29512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3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00000" y="3141720"/>
                    <a:ext cx="70106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7" name="Object 2"/>
          <p:cNvGraphicFramePr/>
          <p:nvPr/>
        </p:nvGraphicFramePr>
        <p:xfrm>
          <a:off x="684360" y="765000"/>
          <a:ext cx="7908840" cy="1925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765000"/>
                    <a:ext cx="79088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Group 10"/>
          <p:cNvGrpSpPr/>
          <p:nvPr/>
        </p:nvGrpSpPr>
        <p:grpSpPr>
          <a:xfrm>
            <a:off x="682560" y="2421000"/>
            <a:ext cx="7783560" cy="576360"/>
            <a:chOff x="682560" y="2421000"/>
            <a:chExt cx="7783560" cy="576360"/>
          </a:xfrm>
        </p:grpSpPr>
        <p:graphicFrame>
          <p:nvGraphicFramePr>
            <p:cNvPr id="160" name="Object 11"/>
            <p:cNvGraphicFramePr/>
            <p:nvPr/>
          </p:nvGraphicFramePr>
          <p:xfrm>
            <a:off x="682560" y="2421000"/>
            <a:ext cx="7783560" cy="576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Object 1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82560" y="2421000"/>
                      <a:ext cx="778356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Object 12"/>
            <p:cNvGraphicFramePr/>
            <p:nvPr/>
          </p:nvGraphicFramePr>
          <p:xfrm>
            <a:off x="3780000" y="2421000"/>
            <a:ext cx="2457360" cy="522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3" name="Object 1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780000" y="2421000"/>
                      <a:ext cx="245736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4" name="Text Box 75"/>
          <p:cNvSpPr/>
          <p:nvPr/>
        </p:nvSpPr>
        <p:spPr>
          <a:xfrm>
            <a:off x="684360" y="2781360"/>
            <a:ext cx="784836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其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分号；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积函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分变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              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积表达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1258920" y="3500280"/>
          <a:ext cx="442800" cy="560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500280"/>
                    <a:ext cx="4428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4"/>
          <p:cNvGraphicFramePr/>
          <p:nvPr/>
        </p:nvGraphicFramePr>
        <p:xfrm>
          <a:off x="4140360" y="3429000"/>
          <a:ext cx="807840" cy="541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40360" y="3429000"/>
                    <a:ext cx="807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5"/>
          <p:cNvGraphicFramePr/>
          <p:nvPr/>
        </p:nvGraphicFramePr>
        <p:xfrm>
          <a:off x="1116000" y="4365720"/>
          <a:ext cx="455760" cy="469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16000" y="4365720"/>
                    <a:ext cx="455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6"/>
          <p:cNvGraphicFramePr/>
          <p:nvPr/>
        </p:nvGraphicFramePr>
        <p:xfrm>
          <a:off x="4067280" y="4292640"/>
          <a:ext cx="993600" cy="584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067280" y="4292640"/>
                    <a:ext cx="993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87"/>
          <p:cNvSpPr/>
          <p:nvPr/>
        </p:nvSpPr>
        <p:spPr>
          <a:xfrm>
            <a:off x="1905120" y="4952880"/>
            <a:ext cx="5181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称为积分常数不可丢 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56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0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93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6" name="Object 2"/>
          <p:cNvGraphicFramePr/>
          <p:nvPr/>
        </p:nvGraphicFramePr>
        <p:xfrm>
          <a:off x="833400" y="770040"/>
          <a:ext cx="6546960" cy="1579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3400" y="770040"/>
                    <a:ext cx="654696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27"/>
          <p:cNvGraphicFramePr/>
          <p:nvPr/>
        </p:nvGraphicFramePr>
        <p:xfrm>
          <a:off x="250920" y="2060640"/>
          <a:ext cx="8281800" cy="1224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9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2060640"/>
                    <a:ext cx="82818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27"/>
          <p:cNvGraphicFramePr/>
          <p:nvPr/>
        </p:nvGraphicFramePr>
        <p:xfrm>
          <a:off x="0" y="3429000"/>
          <a:ext cx="8675640" cy="11523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01" name="Object 2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3429000"/>
                    <a:ext cx="8675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29"/>
          <p:cNvGraphicFramePr/>
          <p:nvPr/>
        </p:nvGraphicFramePr>
        <p:xfrm>
          <a:off x="3203640" y="2708280"/>
          <a:ext cx="2520720" cy="587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4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3640" y="2708280"/>
                    <a:ext cx="25207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31"/>
          <p:cNvGraphicFramePr/>
          <p:nvPr/>
        </p:nvGraphicFramePr>
        <p:xfrm>
          <a:off x="3203640" y="4149720"/>
          <a:ext cx="2448000" cy="666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7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203640" y="4149720"/>
                    <a:ext cx="24480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1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53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2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0" name="Object 2"/>
          <p:cNvGraphicFramePr/>
          <p:nvPr/>
        </p:nvGraphicFramePr>
        <p:xfrm>
          <a:off x="971640" y="907920"/>
          <a:ext cx="6913440" cy="2016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907920"/>
                    <a:ext cx="691344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3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3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4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4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0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5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Object 2"/>
          <p:cNvGraphicFramePr/>
          <p:nvPr/>
        </p:nvGraphicFramePr>
        <p:xfrm>
          <a:off x="826920" y="1197000"/>
          <a:ext cx="7667640" cy="979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1197000"/>
                    <a:ext cx="7667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27"/>
          <p:cNvGraphicFramePr/>
          <p:nvPr/>
        </p:nvGraphicFramePr>
        <p:xfrm>
          <a:off x="1332000" y="2205000"/>
          <a:ext cx="2868480" cy="722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8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2205000"/>
                    <a:ext cx="28684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29"/>
          <p:cNvGraphicFramePr/>
          <p:nvPr/>
        </p:nvGraphicFramePr>
        <p:xfrm>
          <a:off x="4276800" y="2349360"/>
          <a:ext cx="2979720" cy="582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76800" y="2349360"/>
                    <a:ext cx="297972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30"/>
          <p:cNvGraphicFramePr/>
          <p:nvPr/>
        </p:nvGraphicFramePr>
        <p:xfrm>
          <a:off x="1332000" y="3141720"/>
          <a:ext cx="3119400" cy="555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2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32000" y="3141720"/>
                    <a:ext cx="31194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31"/>
          <p:cNvGraphicFramePr/>
          <p:nvPr/>
        </p:nvGraphicFramePr>
        <p:xfrm>
          <a:off x="4427640" y="3141720"/>
          <a:ext cx="3809880" cy="555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4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427640" y="3141720"/>
                    <a:ext cx="38098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32"/>
          <p:cNvGraphicFramePr/>
          <p:nvPr/>
        </p:nvGraphicFramePr>
        <p:xfrm>
          <a:off x="1332000" y="4076640"/>
          <a:ext cx="2735280" cy="627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6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332000" y="4076640"/>
                    <a:ext cx="27352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6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7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7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7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58"/>
          <p:cNvSpPr/>
          <p:nvPr/>
        </p:nvSpPr>
        <p:spPr>
          <a:xfrm>
            <a:off x="4359600" y="442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3.1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定积分的概念与积分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8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8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探    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9" name="Object 2"/>
          <p:cNvGraphicFramePr/>
          <p:nvPr/>
        </p:nvGraphicFramePr>
        <p:xfrm>
          <a:off x="754200" y="1989000"/>
          <a:ext cx="4970160" cy="3888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1989000"/>
                    <a:ext cx="497016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矩形 17"/>
          <p:cNvSpPr/>
          <p:nvPr/>
        </p:nvSpPr>
        <p:spPr>
          <a:xfrm>
            <a:off x="1290600" y="13111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定积分的几何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7" descr=""/>
          <p:cNvPicPr/>
          <p:nvPr/>
        </p:nvPicPr>
        <p:blipFill>
          <a:blip r:embed="rId8"/>
          <a:stretch/>
        </p:blipFill>
        <p:spPr>
          <a:xfrm>
            <a:off x="5796000" y="1052640"/>
            <a:ext cx="28177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0:53:24Z</dcterms:modified>
  <cp:revision>88</cp:revision>
  <dc:subject/>
  <dc:title>幻灯片 1</dc:title>
</cp:coreProperties>
</file>